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20F-E51A-45F9-ABEA-4CF4D861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CD1-14E2-4C2D-9C9C-8159DC41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71F-D861-4302-8843-3F9B1700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2F5-5154-45F5-8E73-E561968F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869-BD9B-49A5-A7B5-FC15EDA3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FFC-04E4-4931-AF05-FB800AA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6A2-B0E2-43E6-B940-95DC35B8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7ED-3C94-41D4-BF0E-EE75EC08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F19-D759-4479-BF04-E12A79AA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348-B5B3-47E4-9A17-A832EEA9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045-A7BA-4086-AB00-4F989B5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E0F-518F-47CE-8BC2-3EB9FF6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A2E-E0FC-45C4-9DEE-5B1097FDA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86280" y="262080"/>
            <a:ext cx="4762440" cy="309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4000" y="4005360"/>
            <a:ext cx="302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comic"/>
              </a:rPr>
              <a:t>27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изкупи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Бог е любовта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658800"/>
            <a:ext cx="3024360" cy="226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692360" y="330048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бях в вериги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греха смъртен;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бях в вериги, безпомощ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997360"/>
            <a:ext cx="4249800" cy="3095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370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1071720"/>
            <a:ext cx="9144000" cy="47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6360" y="134136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прати Спаса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зкупителя,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прати Спаса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паси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752720" cy="33163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24360" y="3749760"/>
            <a:ext cx="4873680" cy="2847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219640" y="549360"/>
            <a:ext cx="35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покани чрез Словото Си, Той ме покани чрез Духа Си.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6:36:39Z</dcterms:created>
  <dc:creator>TrifonTrifonow</dc:creator>
  <dc:description/>
  <dc:language>en-US</dc:language>
  <cp:lastModifiedBy>TrifonTrifonow</cp:lastModifiedBy>
  <dcterms:modified xsi:type="dcterms:W3CDTF">2005-12-08T07:05:51Z</dcterms:modified>
  <cp:revision>17</cp:revision>
  <dc:subject/>
  <dc:title>Slide 1</dc:title>
</cp:coreProperties>
</file>